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462-3E28-49F1-9DCF-0A2A605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10D-703B-47C7-A42F-07F8BB5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D11-8C3E-469E-8B1B-054D77E4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52D-F87C-4380-A846-8C83E2A2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542-8318-4CBB-A28F-57ABF1AF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14A-1736-4845-97A6-FE1133A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676-0442-4AAC-A578-1091F21C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BAD-60E8-488D-9FB8-9D7DA72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C97-FF18-4BF7-919D-ED91F7BF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3FF-7CDC-4504-BB88-3D1AF70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548-1B06-439E-B9D8-7744DCA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D5F-2A2F-4F0D-BB35-2B17216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9DA-01D6-42EC-8B9C-750F9D19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ncrete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191628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Things you </a:t>
            </a: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can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se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284640"/>
            <a:ext cx="64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concrete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which is something you can see and tou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4941720"/>
            <a:ext cx="61200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Something touch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 plant, rain, paper, chai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49:29Z</dcterms:modified>
  <cp:revision>16</cp:revision>
  <dc:subject/>
  <dc:title>Simile</dc:title>
</cp:coreProperties>
</file>